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F0A-70BC-44DC-9425-01C6EEE9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017-64A8-4719-8B29-2119279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CF6-0598-4F4E-ABB9-1943521F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291-8EB2-4456-A4E5-EF0912CA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7EFD-C09A-47C8-B771-B1CDA2AB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16E8-A3B7-4796-AB36-9AD1985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7948-3A56-4956-B2E2-2D173B6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75AC-49A7-44F3-B4ED-3D9CD415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1A61-BF5F-4213-96E1-18E67638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978-169D-4682-9436-5D9E6C3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934D-3472-4A9B-8C7E-9E4466E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F84-0870-4780-84BE-3FAA643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56EA-E8E1-4145-94BE-0FA0378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BA0-5BED-447E-9EA6-A07B4D4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5CE7-AED9-41BA-B89B-BC9CE5F7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4746-CD39-4D59-99C3-3C07207D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A26-08F9-45DC-AD75-48568B3A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6E5-9F56-412B-A1C9-5DB18D97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8DC-347F-425C-970F-99038CB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F41-621C-4375-9DE9-3A359D0A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594-5FFB-4628-BB60-653C57E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228-F624-419B-99FE-8A2E603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53A-A989-4E28-AC3A-5531DE0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1B7-0EF4-4245-B85F-1B208DD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9D1A-C67F-4CC5-A061-5F60B0B9A8B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tela02.jpg"/>
          <p:cNvPicPr/>
          <p:nvPr/>
        </p:nvPicPr>
        <p:blipFill>
          <a:blip r:embed="rId2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F97-C8B1-4757-A81D-4C00446F4EF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84" name="Espaço Reservado para Conteúdo 3" descr="tel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Demandas Setor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Análise segment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Estudo detalhado dos diversos setores do comércio, varejo e serviços, visando à implantação de políticas horizontais com um programa de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Treinamento e qualific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Preparar um amplo programa de treinamento e qualificação de trabalhadores, complementar aos programas já existentes do Sesc e Sena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Demandas Setor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Estímulo a investi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Programa de apoio às empresas que tenham projetos de crescimento seja de forma orgânica ou por meio de fusão e integração de empre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 DE DESENVOLVIMENTO DO COMÉRCIO E SERVIÇ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Visão de Longo Pr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É urgente que o setor se articule com o Governo para planejar seu crescimento para os próximos 5, 10, e 15 anos, preparando as políticas que possam dar sustentação a esta visão de longo praz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Integração da cadeia produ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Nada será alcançado de forma sustentável sem uma efetiva integração dos agentes da cadeia produtiva, tendo-se em mente que é o varejo que está em contato direto com o consumidor fin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iminuição da Inform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A concorrência desleal é um dos principais problemas enfrentados por todos os segmentos, transformando empresas que respeitam a lei em vitimas da falta de é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Sustentabilidade e Governan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A Governança é hoje um dos principais pilares das empresas que se preocupam com a solidez de seus negóc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Devemos estar também atentos às questões de sustentabilidade ambiental e consumo responsá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Precisamos criar mecanismos de incentivo visando introduzir estas práticas em todas as empres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Tributá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Redução da car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Simplificação do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Redução unificada e nacional da tributação nos produtos da cesta b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Trabalh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Criação de um "Simples Trabalhista", com ênfase na desoneração da folha de paga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Estabelecimento de regras especiais de remuneração e jornada de trabalho para o comércio, dadas as especificidades do se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Internacionalização e Export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mpliação e fortalecimento de canais de distribuição internaciona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Maior apoio da Apex no incentivo à internacionalização das empresas de varej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Fortalecimento do comércio interno, sem protecionis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er um projeto de estímulo a mar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poio às pequenas e média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Criar mecanismos de incentivo e simplificação ao pequeno comér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er um programa de incentivo ao desenvolvimento de franqu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tuar pela desburocratização das obrigações fiscais e trabalh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Financi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poio do BNDES ao comércio com ampliação de linhas de financi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Criação de mecanismos facilitados de concessão de crédito pelo sistema finance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Inovação Tecnológica e Logí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Programa de apoio à inovação e desenvolvimento tecnológico das empre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imento de um programa de integração logística entre a cadeia produtiva e os segmentos de comércio e serviç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35:54Z</dcterms:created>
  <dc:creator>fabiola.xavier</dc:creator>
  <dc:description/>
  <dc:language>en-US</dc:language>
  <cp:lastModifiedBy>fabiola.xavier</cp:lastModifiedBy>
  <dcterms:modified xsi:type="dcterms:W3CDTF">2008-10-10T19:45:58Z</dcterms:modified>
  <cp:revision>14</cp:revision>
  <dc:subject/>
  <dc:title>Slide 1</dc:title>
</cp:coreProperties>
</file>